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EE0-A223-4687-B909-E20D531E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88C-63D7-4038-A416-A9C8AA1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786-7432-4945-8A25-0BB0340B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406-D874-4584-93C5-7819FE43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FD0-025A-4513-A011-19862344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B68-E2F8-4E46-BD82-332922A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89F-8FE0-458D-A185-8BB4A588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CDB-7105-41DE-9ECF-830D68C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67A-B4A1-4299-88A0-53E18B9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EAE-7043-4347-A84B-38B3BBD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9CA-F51E-4D28-8E1C-67D4083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950-6438-4980-ABC6-B1ADC849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B48-B70C-4404-90C5-F963B751D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cacicovschi\Desktop\4.jpg"/>
          <p:cNvPicPr/>
          <p:nvPr/>
        </p:nvPicPr>
        <p:blipFill>
          <a:blip r:embed="rId1"/>
          <a:stretch/>
        </p:blipFill>
        <p:spPr>
          <a:xfrm>
            <a:off x="0" y="0"/>
            <a:ext cx="10291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Dreptunghi 5" descr=""/>
          <p:cNvPicPr/>
          <p:nvPr/>
        </p:nvPicPr>
        <p:blipFill>
          <a:blip r:embed="rId2"/>
          <a:stretch/>
        </p:blipFill>
        <p:spPr>
          <a:xfrm>
            <a:off x="1560600" y="2408400"/>
            <a:ext cx="5516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Noël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25 décembre</a:t>
            </a:r>
            <a:br>
              <a:rPr sz="3200"/>
            </a:b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(Naissance de Jés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’est une fête familiale. Un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apin de Noël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et une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rèche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sont installés dans la maison. Les enfants reçoivent des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adeaux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du "Père Noël". Des messes sont célébrées le 24 à minuit, après le repas famil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Dreptunghi 3" descr=""/>
          <p:cNvPicPr/>
          <p:nvPr/>
        </p:nvPicPr>
        <p:blipFill>
          <a:blip r:embed="rId2"/>
          <a:stretch/>
        </p:blipFill>
        <p:spPr>
          <a:xfrm>
            <a:off x="1670040" y="176040"/>
            <a:ext cx="5675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Jour de l’An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Premier janv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On décore la maison avec du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gui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, symbole du bonheur. On s’embrasse à minuit en se souhaitant "bonne année". On réveillonne toute la nu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Epiph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(Premier dimanche après le Jour de l’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On partage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galett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 dans laquelle on a caché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fèv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. Celui ou celle qui trouve la fève devient le "Roi" ou la "Reine" et on lui place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couronn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 sur la tê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aint Valentin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14 fév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’est la fête des amoureux : on offre des fleurs à celui ou celle qu’on a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ardi-Gras: 40 jours avant Pâ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rnier jour du 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arnaval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 avant le Carême, qui commence avec le jeûne du Mercredi des Cendres et finit 40 jours plus tard, à Pâques. Le jour du Carnaval, des 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hars grotesques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 défilent dans les rues et les enfants se dégui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cacicovschi\Desktop\97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51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er Av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ur 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isante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es blagues, des canulars, des fausses nouvelles dans les médias. Les enfants s’accrochent des petits poissons de papier dans le 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â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 souvenir de l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ésurrection de Jé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’est l’occasion de grand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Les enfants cherchent d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eufs en chocol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dans les maisons et jardins que les cloches de Rome ont fait tomber du ciel. Ce sont en fait les parents qui les ont caché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ête du Trav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mier m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émoration de la manifestation 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dicats d’ouvriers américains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 188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 familles vont cueillir le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gu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s les forêts et on en décore les maisons. 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ifest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sont organisées par l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dic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pour symboliser l’unité des travaill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Dreptunghi 4" descr=""/>
          <p:cNvPicPr/>
          <p:nvPr/>
        </p:nvPicPr>
        <p:blipFill>
          <a:blip r:embed="rId3"/>
          <a:stretch/>
        </p:blipFill>
        <p:spPr>
          <a:xfrm>
            <a:off x="1401840" y="2962440"/>
            <a:ext cx="3538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cacicovschi\Desktop\1945.jpg"/>
          <p:cNvPicPr/>
          <p:nvPr/>
        </p:nvPicPr>
        <p:blipFill>
          <a:blip r:embed="rId1"/>
          <a:stretch/>
        </p:blipFill>
        <p:spPr>
          <a:xfrm>
            <a:off x="0" y="0"/>
            <a:ext cx="908064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198600">
            <a:off x="450360" y="533160"/>
            <a:ext cx="82296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ictoire 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 m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ïque : commémoration de la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n de la Seconde Guerre mondia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1939-45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 cérémonies ont lieu en souvenir des soldats tués pendant la guerre. Des gerbes de fleurs sont déposées sur la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mbe du Soldat Inconn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u pied de l’Arc de Triomphe à Paris et sur les Monuments aux M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ussai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mier nov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ête de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us les Sai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’est une fête en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ouvenir des m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Le 2 novembre, on se rend dans les cimetières pour fleurir les tombes avec des chrysanthèm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rmistice de 191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11 novemb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émoration de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a fin de la Première Guerre mondi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914-18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érémoni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ont lieu en souvenir des soldats tués pendant la guerre. Des gerbes de fleurs sont déposées sur la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mbe du Soldat Inconnu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u pied de l’Arc de Triomphe à Paris et sur l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onuments aux M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reptunghi 3" descr=""/>
          <p:cNvPicPr/>
          <p:nvPr/>
        </p:nvPicPr>
        <p:blipFill>
          <a:blip r:embed="rId1"/>
          <a:stretch/>
        </p:blipFill>
        <p:spPr>
          <a:xfrm>
            <a:off x="1500120" y="165240"/>
            <a:ext cx="6156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cacicovschi\Desktop\vara.jpg"/>
          <p:cNvPicPr/>
          <p:nvPr/>
        </p:nvPicPr>
        <p:blipFill>
          <a:blip r:embed="rId1"/>
          <a:stretch/>
        </p:blipFill>
        <p:spPr>
          <a:xfrm>
            <a:off x="-182880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235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éte de la Musique: 21 jui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 concerts sont organisés partout dans le pays. Chacun peut organiser son propre concert dans la rue, sur les places. C’est une grande fête populaire qui a lieu dans plus en plus de pay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ête Nationale: 14 juille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Laïque : commémore laprise de la Bastille en 1789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 défilés militaires ont lieu, en particulier sur les Champs Elysées à Paris. On tire des feux d’artifice partout dans le pays. Des bals populaires sont organisés dans toutes les vill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ssomption: 15 aoû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atholique : en souvenir de la montée de laSainte Viergeau cie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 défilés et des processions ont lieu partout dans le pays. Des bals populaires sont organisés, ainsi que des feux d’artif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reptunghi 3" descr=""/>
          <p:cNvPicPr/>
          <p:nvPr/>
        </p:nvPicPr>
        <p:blipFill>
          <a:blip r:embed="rId2"/>
          <a:stretch/>
        </p:blipFill>
        <p:spPr>
          <a:xfrm>
            <a:off x="2225520" y="165240"/>
            <a:ext cx="44308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18:03:43Z</dcterms:created>
  <dc:creator>cacicovschi</dc:creator>
  <dc:description/>
  <dc:language>en-US</dc:language>
  <cp:lastModifiedBy>cacicovschi</cp:lastModifiedBy>
  <dcterms:modified xsi:type="dcterms:W3CDTF">2013-06-04T08:32:04Z</dcterms:modified>
  <cp:revision>4</cp:revision>
  <dc:subject/>
  <dc:title>Diapozitivul 1</dc:title>
</cp:coreProperties>
</file>